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A9F-5B44-44B8-ACF6-930442AB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0A3-9BAE-457F-8442-F1CB5862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733-276E-4E97-819B-C97F1BDD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0F0-B09B-4964-9B2C-11E6B593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451-5354-46AF-A2BA-304AEAAD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43D-3CB5-402D-9CF5-9FF66C47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3B0-B39B-468F-8822-4CCE813F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F07-C0FB-4A75-87D4-55DB8D74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1DB-711D-4FF5-BD92-2F715B9F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8B4-8D27-4E9A-A826-43EFBD8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1D9-DE98-4068-9323-41889F8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F75-6BAA-4AE4-A124-6FD0194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2D4B-281B-4043-AAA9-DBB446488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ello_html_7b6b8460.jpg"/>
          <p:cNvPicPr/>
          <p:nvPr/>
        </p:nvPicPr>
        <p:blipFill>
          <a:blip r:embed="rId1"/>
          <a:srcRect l="7482" t="0" r="327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627280" y="189000"/>
            <a:ext cx="4457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165560"/>
            <a:ext cx="4056120" cy="269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8194" t="0" r="5902" b="0"/>
          <a:stretch/>
        </p:blipFill>
        <p:spPr>
          <a:xfrm>
            <a:off x="1692360" y="2476440"/>
            <a:ext cx="5111640" cy="4381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276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19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552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19280" y="2876400"/>
            <a:ext cx="5977080" cy="3818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9742" t="0" r="8871" b="0"/>
          <a:stretch/>
        </p:blipFill>
        <p:spPr>
          <a:xfrm>
            <a:off x="6084720" y="0"/>
            <a:ext cx="3059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ello_html_1c7d548.jpg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hello_html_m745dd2f5.jpg"/>
          <p:cNvPicPr/>
          <p:nvPr/>
        </p:nvPicPr>
        <p:blipFill>
          <a:blip r:embed="rId1"/>
          <a:srcRect l="0" t="7315" r="0" b="548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hello_html_m15486c51.jpg"/>
          <p:cNvPicPr/>
          <p:nvPr/>
        </p:nvPicPr>
        <p:blipFill>
          <a:blip r:embed="rId1"/>
          <a:srcRect l="6711" t="0" r="4331" b="0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ello_html_5919a2b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4T13:23:36Z</dcterms:created>
  <dc:creator>user</dc:creator>
  <dc:description/>
  <dc:language>en-US</dc:language>
  <cp:lastModifiedBy>user</cp:lastModifiedBy>
  <dcterms:modified xsi:type="dcterms:W3CDTF">2016-12-04T11:14:12Z</dcterms:modified>
  <cp:revision>5</cp:revision>
  <dc:subject/>
  <dc:title>Слайд 1</dc:title>
</cp:coreProperties>
</file>